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wmf" ContentType="image/x-wmf"/>
  <Override PartName="/ppt/media/image5.png" ContentType="image/png"/>
  <Override PartName="/ppt/media/glass.wav" ContentType="audio/x-wav"/>
  <Override PartName="/ppt/media/camera.wav" ContentType="audio/x-wav"/>
  <Override PartName="/ppt/media/explode.wav" ContentType="audio/x-wav"/>
  <Override PartName="/ppt/media/image6.png" ContentType="image/png"/>
  <Override PartName="/ppt/media/image3.png" ContentType="image/png"/>
  <Override PartName="/ppt/media/clap.wav" ContentType="audio/x-wav"/>
  <Override PartName="/ppt/media/chimes.wav" ContentType="audio/x-wav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E591-3B0A-4EF9-8985-F1CE3920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AB7B-9736-4A67-B53E-C5A29E28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BA81-9DFB-417B-A2C3-3F9F919C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BAF-A568-4A39-B966-CD5DF1E7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ED9F-39E6-4E0D-B810-F7C167BC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6370-E8DC-4905-90B3-BBED9B1C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B4A5-0ACB-4286-AEBD-CAFE43AC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BE85-5DF3-475B-BDCC-A188205D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C7F6-B200-426D-AEE1-D3A4EFBC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5B30-D65D-48B8-B2E9-BF01CE18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40DF-E217-40FE-B8E2-E33B6E3F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4769-FF34-42A3-A709-AB0AEC85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5FA4-EE10-47D8-9C5A-FE848737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7D75-F25C-441F-AB23-30FAE4B6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1F2C-6A7E-4AF6-BB09-80B1B264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464C-D7AC-4CBC-8F70-1CBF0DA1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8E5E-5F62-42BA-87E2-76FED36B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C8F7-A0CB-41BD-BC5C-AFB03325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8C30-A52B-4CB4-8E18-ED98FEA4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610-0963-43BE-B381-BA3F7CED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F615-8429-4B11-BAD8-88FBDD32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6123-EC2F-4BBC-B988-7FBBBB25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EA13-51C8-4A17-A7C9-E278DB9C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3940-6458-41BE-8C65-67A1EAA0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b8b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b8b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b8b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b8b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b8b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5B98-4C0C-468A-B1F7-1DB75F1250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b8b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b8b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b8b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b8b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b8b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b8b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EA4A-0362-40C2-9D8A-7D032A1578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amera.wav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16480" y="3809880"/>
            <a:ext cx="5627520" cy="1371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100"/>
            </a:br>
            <a:r>
              <a:rPr b="0" lang="es-ES_tradnl" sz="5000" spc="-1" strike="noStrike">
                <a:solidFill>
                  <a:srgbClr val="808080"/>
                </a:solidFill>
                <a:latin typeface="Arial"/>
              </a:rPr>
              <a:t>Fotografías: </a:t>
            </a:r>
            <a:br>
              <a:rPr sz="5000"/>
            </a:br>
            <a:r>
              <a:rPr b="0" lang="es-ES_tradnl" sz="3700" spc="-1" strike="noStrike">
                <a:solidFill>
                  <a:srgbClr val="000000"/>
                </a:solidFill>
                <a:latin typeface="Arial"/>
              </a:rPr>
              <a:t>Lo que dicen las historia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8" descr="j0202202"/>
          <p:cNvPicPr/>
          <p:nvPr/>
        </p:nvPicPr>
        <p:blipFill>
          <a:blip r:embed="rId1">
            <a:grayscl/>
            <a:lum contrast="18000"/>
          </a:blip>
          <a:stretch/>
        </p:blipFill>
        <p:spPr>
          <a:xfrm>
            <a:off x="685800" y="914400"/>
            <a:ext cx="2982960" cy="44956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9"/>
          <p:cNvSpPr/>
          <p:nvPr/>
        </p:nvSpPr>
        <p:spPr>
          <a:xfrm>
            <a:off x="3962520" y="160020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¿Vale más una imagen que mil palabr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7680" y="5486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Marcha en Tennessee, 19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367240" cy="3828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med">
    <p:zoom dir="in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100" spc="-1" strike="noStrike">
                <a:solidFill>
                  <a:srgbClr val="9999ff"/>
                </a:solidFill>
                <a:latin typeface="Elephant"/>
              </a:rPr>
              <a:t>¿Cómo las imágenes cuentan historias?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Una ana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camera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7680" y="465120"/>
            <a:ext cx="85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9999ff"/>
                </a:solidFill>
                <a:latin typeface="Elephant"/>
              </a:rPr>
              <a:t>¡Vamos a comernos el pastel!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620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Con los mismos ingredientes hará un pastel, galletas o podrá jugar con arc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Los ingredientes combinados de diferentes maneras producen una variedad de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camera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3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3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7680" y="465120"/>
            <a:ext cx="85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700" spc="-1" strike="noStrike">
                <a:solidFill>
                  <a:srgbClr val="9999ff"/>
                </a:solidFill>
                <a:latin typeface="Elephant"/>
              </a:rPr>
              <a:t>¿Es esto un pastel?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Describa el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_tradnl" sz="2700" spc="-1" strike="noStrike">
                <a:solidFill>
                  <a:srgbClr val="000000"/>
                </a:solidFill>
                <a:latin typeface="Courier New"/>
              </a:rPr>
              <a:t>Textu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_tradnl" sz="2700" spc="-1" strike="noStrike">
                <a:solidFill>
                  <a:srgbClr val="000000"/>
                </a:solidFill>
                <a:latin typeface="Courier New"/>
              </a:rPr>
              <a:t>Sab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_tradnl" sz="2700" spc="-1" strike="noStrike">
                <a:solidFill>
                  <a:srgbClr val="000000"/>
                </a:solidFill>
                <a:latin typeface="Courier New"/>
              </a:rPr>
              <a:t>Ol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_tradnl" sz="2700" spc="-1" strike="noStrike">
                <a:solidFill>
                  <a:srgbClr val="000000"/>
                </a:solidFill>
                <a:latin typeface="Courier New"/>
              </a:rPr>
              <a:t>Aparienc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bd05119_"/>
          <p:cNvPicPr/>
          <p:nvPr/>
        </p:nvPicPr>
        <p:blipFill>
          <a:blip r:embed="rId1">
            <a:grayscl/>
          </a:blip>
          <a:stretch/>
        </p:blipFill>
        <p:spPr>
          <a:xfrm>
            <a:off x="5334120" y="1447920"/>
            <a:ext cx="2678040" cy="341784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camera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3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3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3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3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3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254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700" spc="-1" strike="noStrike">
                <a:solidFill>
                  <a:srgbClr val="9999ff"/>
                </a:solidFill>
                <a:latin typeface="Elephant"/>
              </a:rPr>
              <a:t>Diseñe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162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El diseño es el lenguaje del arte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Los elementos del diseño son como los ingredientes de panaderí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La composición del diseño es similar a una recet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Los principios del diseño son la manera de describir los 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camera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17680" y="465120"/>
            <a:ext cx="85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700" spc="-1" strike="noStrike">
                <a:solidFill>
                  <a:srgbClr val="9999ff"/>
                </a:solidFill>
                <a:latin typeface="Elephant"/>
              </a:rPr>
              <a:t>Elementos de diseño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Línea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Figura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Color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Espacio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Tex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camera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3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3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3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3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7680" y="465120"/>
            <a:ext cx="85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700" spc="-1" strike="noStrike">
                <a:solidFill>
                  <a:srgbClr val="9999ff"/>
                </a:solidFill>
                <a:latin typeface="Elephant"/>
              </a:rPr>
              <a:t>Principios de diseño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6440" y="1981080"/>
            <a:ext cx="403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Unidad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Variedad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Domina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00240" y="1981080"/>
            <a:ext cx="403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Ritmo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Movimiento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camera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4040" y="808200"/>
            <a:ext cx="624816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700" spc="-1" strike="noStrike">
                <a:solidFill>
                  <a:srgbClr val="9999ff"/>
                </a:solidFill>
                <a:latin typeface="Elephant"/>
              </a:rPr>
              <a:t>Sus tarea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4040" y="1722600"/>
            <a:ext cx="80913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Asuma las tareas y funciones de un fotoperiodis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461880">
              <a:lnSpc>
                <a:spcPct val="90000"/>
              </a:lnSpc>
              <a:spcBef>
                <a:spcPts val="624"/>
              </a:spcBef>
              <a:buClr>
                <a:srgbClr val="9999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Courier New"/>
              </a:rPr>
              <a:t>Interprete y critique las fotografías </a:t>
            </a:r>
            <a:br>
              <a:rPr sz="2500"/>
            </a:br>
            <a:r>
              <a:rPr b="1" lang="es-ES_tradnl" sz="25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Asuma las tareas y funciones de un diseñador grá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461880">
              <a:lnSpc>
                <a:spcPct val="90000"/>
              </a:lnSpc>
              <a:spcBef>
                <a:spcPts val="624"/>
              </a:spcBef>
              <a:buClr>
                <a:srgbClr val="9999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Courier New"/>
              </a:rPr>
              <a:t>Desarrolle un portafolio de fotografía/diseñ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camera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55627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Courier New"/>
              </a:rPr>
              <a:t>Jóvenes inmigrantes en la isla Ell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1143000" y="1176480"/>
            <a:ext cx="6969240" cy="3871800"/>
          </a:xfrm>
          <a:prstGeom prst="rect">
            <a:avLst/>
          </a:prstGeom>
          <a:ln w="54000">
            <a:solidFill>
              <a:srgbClr val="000000"/>
            </a:solidFill>
            <a:miter/>
          </a:ln>
        </p:spPr>
      </p:pic>
    </p:spTree>
  </p:cSld>
  <p:transition spd="med">
    <p:fade thruBlk="true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50292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Trabajadora inmigrante y sus hijos, 19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1"/>
          <a:stretch/>
        </p:blipFill>
        <p:spPr>
          <a:xfrm>
            <a:off x="2133720" y="1065240"/>
            <a:ext cx="5024160" cy="3963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med">
    <p:zoom dir="in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5067360"/>
            <a:ext cx="86108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Padre jugando con su hijo,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0" descr="j0178814"/>
          <p:cNvPicPr/>
          <p:nvPr/>
        </p:nvPicPr>
        <p:blipFill>
          <a:blip r:embed="rId1">
            <a:grayscl/>
          </a:blip>
          <a:stretch/>
        </p:blipFill>
        <p:spPr>
          <a:xfrm>
            <a:off x="2209680" y="1295280"/>
            <a:ext cx="4419720" cy="2946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med">
    <p:zoom dir="in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267080" y="4844520"/>
            <a:ext cx="426744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tres histo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31" descr=""/>
          <p:cNvPicPr/>
          <p:nvPr/>
        </p:nvPicPr>
        <p:blipFill>
          <a:blip r:embed="rId1"/>
          <a:stretch/>
        </p:blipFill>
        <p:spPr>
          <a:xfrm>
            <a:off x="4267080" y="1784520"/>
            <a:ext cx="4419720" cy="245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9" name="Picture 1034" descr=""/>
          <p:cNvPicPr/>
          <p:nvPr/>
        </p:nvPicPr>
        <p:blipFill>
          <a:blip r:embed="rId2"/>
          <a:stretch/>
        </p:blipFill>
        <p:spPr>
          <a:xfrm>
            <a:off x="517680" y="547560"/>
            <a:ext cx="3124080" cy="2463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0" name="Picture 1038" descr="j0178814"/>
          <p:cNvPicPr/>
          <p:nvPr/>
        </p:nvPicPr>
        <p:blipFill>
          <a:blip r:embed="rId3">
            <a:grayscl/>
          </a:blip>
          <a:stretch/>
        </p:blipFill>
        <p:spPr>
          <a:xfrm>
            <a:off x="517680" y="3581280"/>
            <a:ext cx="3124080" cy="2082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1" name="Text Box 1040"/>
          <p:cNvSpPr/>
          <p:nvPr/>
        </p:nvSpPr>
        <p:spPr>
          <a:xfrm>
            <a:off x="4267080" y="717480"/>
            <a:ext cx="4419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res famili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4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7200" y="465120"/>
            <a:ext cx="85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700" spc="-1" strike="noStrike">
                <a:solidFill>
                  <a:srgbClr val="9999ff"/>
                </a:solidFill>
                <a:latin typeface="Elephant"/>
              </a:rPr>
              <a:t>¡Piense acerca de esto!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756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Tres fotografías de tres familias (mismo te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Ordenadas de diferentes for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Cuentan diferentes histo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1929960"/>
            <a:ext cx="7315200" cy="20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Si pudiera contar la historia con palabras, yo no tendría necesidad de cargar una cámara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400" y="914040"/>
            <a:ext cx="64008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700" spc="-1" strike="noStrike">
                <a:solidFill>
                  <a:srgbClr val="9999ff"/>
                </a:solidFill>
                <a:latin typeface="Elephant"/>
              </a:rPr>
              <a:t>Lewis Hine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3971880"/>
            <a:ext cx="3900240" cy="2355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>
    <p:pull dir="ru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7680" y="465120"/>
            <a:ext cx="85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700" spc="-1" strike="noStrike">
                <a:solidFill>
                  <a:srgbClr val="9999ff"/>
                </a:solidFill>
                <a:latin typeface="Elephant"/>
              </a:rPr>
              <a:t>Lewis Hine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57800" y="22096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as fotografías históricas de Hine cambiaron las leyes laborales infant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miners - Lewis Hine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7200" y="2025720"/>
            <a:ext cx="4599000" cy="327636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36147" dir="2700000" blurRad="0" rotWithShape="0">
              <a:srgbClr val="9933ff"/>
            </a:outerShdw>
          </a:effectLst>
        </p:spPr>
      </p:pic>
    </p:spTree>
  </p:cSld>
  <p:transition>
    <p:zoom dir="in"/>
    <p:sndAc>
      <p:stSnd>
        <p:snd r:embed="rId2" name="camera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3636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9999ff"/>
                </a:solidFill>
                <a:latin typeface="Elephant"/>
              </a:rPr>
              <a:t>¿Qué historia cuenta la fotografía?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17:41:30Z</dcterms:created>
  <dc:creator>RRHS</dc:creator>
  <dc:description/>
  <dc:language>en-US</dc:language>
  <cp:lastModifiedBy>Jacqueline Arroyo</cp:lastModifiedBy>
  <dcterms:modified xsi:type="dcterms:W3CDTF">2008-08-05T18:41:02Z</dcterms:modified>
  <cp:revision>45</cp:revision>
  <dc:subject/>
  <dc:title>Photographs: The Stories They Tell</dc:title>
</cp:coreProperties>
</file>